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93B2-E7C2-4205-9B55-55542DE2C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62F-F1E1-4A7E-8CF8-F124622B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2F7-EAB1-4753-AF0A-EEDD7E25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B8B4-4ACC-43EC-9B7D-A23DBB34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AABA-D8FD-4A99-AA15-70B01438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6A4E-7784-45ED-B5B7-284F9AE9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5B90-3C82-46AB-905E-0E528F17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9204-364D-4C53-BDDE-CCA1A665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1AE0-6BC2-4806-9707-C09070C6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E43A-F500-48F1-8B9D-50DF9D34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2B52-54BF-4BD7-BBBE-AC139198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ECF5-5B9C-4EFD-A234-94AFEBC1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1797-A7F0-496C-8555-55FDCB05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730B-929F-418F-BD40-6A013CDE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A94D-A0C7-45E6-B9A5-0753D0FB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0F7B-8236-4BBB-9173-5D5CB25A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94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223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94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223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CC01-8C4B-4525-8871-67438D66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9CF2-6890-456B-8882-7F710110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3F3-7B1A-435D-B004-59E704C5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A3EC-F939-43A5-973F-3ECB6E02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E4B5-CB23-4FC4-956D-B6D2AF0E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C10-D63B-4ABC-9785-675B9A8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493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00F-097A-4D73-A75A-640D952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CC0-B84A-4B1B-BE56-112311B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pic>
          <p:nvPicPr>
            <p:cNvPr id="1" name="Picture 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03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3"/>
            <p:cNvSpPr/>
            <p:nvPr/>
          </p:nvSpPr>
          <p:spPr>
            <a:xfrm>
              <a:off x="914400" y="1828800"/>
              <a:ext cx="8001000" cy="4343400"/>
            </a:xfrm>
            <a:prstGeom prst="rect">
              <a:avLst/>
            </a:prstGeom>
            <a:solidFill>
              <a:srgbClr val="00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0E0D-B687-47FA-A422-B199AEEBB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75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8032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828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962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EF4E-B9C9-45FC-86D4-AED0782DA9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15238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ab Equipmen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Know what you are working with…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9" name="Picture 37" descr=""/>
          <p:cNvPicPr/>
          <p:nvPr/>
        </p:nvPicPr>
        <p:blipFill>
          <a:blip r:embed="rId1"/>
          <a:stretch/>
        </p:blipFill>
        <p:spPr>
          <a:xfrm>
            <a:off x="914400" y="-41400"/>
            <a:ext cx="8229600" cy="69328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219320" y="609480"/>
            <a:ext cx="1295280" cy="152424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2819520" y="380880"/>
            <a:ext cx="1752480" cy="19051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133720" y="4800600"/>
            <a:ext cx="5257800" cy="68580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438280" y="6324480"/>
            <a:ext cx="5257800" cy="5335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5" name="Picture 30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1066680" y="1905120"/>
            <a:ext cx="3886200" cy="838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66680" y="2895480"/>
            <a:ext cx="3886200" cy="83844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66680" y="3886200"/>
            <a:ext cx="3886200" cy="838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066680" y="4876920"/>
            <a:ext cx="3886200" cy="838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019920" y="1371600"/>
            <a:ext cx="3124080" cy="17524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6019920" y="5638680"/>
            <a:ext cx="3124080" cy="12193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3" name="Picture 47" descr=""/>
          <p:cNvPicPr/>
          <p:nvPr/>
        </p:nvPicPr>
        <p:blipFill>
          <a:blip r:embed="rId1"/>
          <a:stretch/>
        </p:blipFill>
        <p:spPr>
          <a:xfrm>
            <a:off x="914400" y="0"/>
            <a:ext cx="82296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914400" y="0"/>
            <a:ext cx="1600200" cy="3124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4648320" y="0"/>
            <a:ext cx="2209680" cy="3124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7162920" y="0"/>
            <a:ext cx="1981080" cy="3124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543800" y="3276720"/>
            <a:ext cx="1600200" cy="198108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590920" y="5410080"/>
            <a:ext cx="2514600" cy="14479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14400" y="0"/>
            <a:ext cx="8229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1" name="Group 29"/>
          <p:cNvGrpSpPr/>
          <p:nvPr/>
        </p:nvGrpSpPr>
        <p:grpSpPr>
          <a:xfrm>
            <a:off x="918720" y="0"/>
            <a:ext cx="8224560" cy="6905520"/>
            <a:chOff x="918720" y="0"/>
            <a:chExt cx="8224560" cy="6905520"/>
          </a:xfrm>
        </p:grpSpPr>
        <p:pic>
          <p:nvPicPr>
            <p:cNvPr id="112" name="Picture 6" descr="http://www.howe.k12.ok.us/~jimaskew/burets.gif"/>
            <p:cNvPicPr/>
            <p:nvPr/>
          </p:nvPicPr>
          <p:blipFill>
            <a:blip r:embed="rId1"/>
            <a:srcRect l="0" t="0" r="78125" b="0"/>
            <a:stretch/>
          </p:blipFill>
          <p:spPr>
            <a:xfrm>
              <a:off x="1013400" y="0"/>
              <a:ext cx="691560" cy="29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7" descr="http://www.howe.k12.ok.us/~jimaskew/burets.gif"/>
            <p:cNvPicPr/>
            <p:nvPr/>
          </p:nvPicPr>
          <p:blipFill>
            <a:blip r:embed="rId2"/>
            <a:srcRect l="21429" t="27960" r="28363" b="35679"/>
            <a:stretch/>
          </p:blipFill>
          <p:spPr>
            <a:xfrm>
              <a:off x="4020480" y="1882800"/>
              <a:ext cx="1598040" cy="10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http://www.einsteins-emporium.com/science/chemistry/images/sc310-r1.gif"/>
            <p:cNvPicPr/>
            <p:nvPr/>
          </p:nvPicPr>
          <p:blipFill>
            <a:blip r:embed="rId3"/>
            <a:stretch/>
          </p:blipFill>
          <p:spPr>
            <a:xfrm>
              <a:off x="3344760" y="3861000"/>
              <a:ext cx="3430080" cy="245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5" descr="http://shop.chemassociates.com/shopsite/rasheman/media/dessicator2.gif"/>
            <p:cNvPicPr/>
            <p:nvPr/>
          </p:nvPicPr>
          <p:blipFill>
            <a:blip r:embed="rId4"/>
            <a:stretch/>
          </p:blipFill>
          <p:spPr>
            <a:xfrm>
              <a:off x="7362360" y="1677960"/>
              <a:ext cx="1780920" cy="12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25"/>
            <p:cNvSpPr/>
            <p:nvPr/>
          </p:nvSpPr>
          <p:spPr>
            <a:xfrm>
              <a:off x="918720" y="31176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1717"/>
                  </a:solidFill>
                  <a:latin typeface="Times New Roman"/>
                </a:rPr>
                <a:t>Buret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Text Box 26"/>
            <p:cNvSpPr/>
            <p:nvPr/>
          </p:nvSpPr>
          <p:spPr>
            <a:xfrm>
              <a:off x="3997080" y="3117600"/>
              <a:ext cx="164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1717"/>
                  </a:solidFill>
                  <a:latin typeface="Times New Roman"/>
                </a:rPr>
                <a:t>Double buret clamp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Text Box 27"/>
            <p:cNvSpPr/>
            <p:nvPr/>
          </p:nvSpPr>
          <p:spPr>
            <a:xfrm>
              <a:off x="7511760" y="3117600"/>
              <a:ext cx="114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1717"/>
                  </a:solidFill>
                  <a:latin typeface="Times New Roman"/>
                </a:rPr>
                <a:t>Dessicator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Text Box 28"/>
            <p:cNvSpPr/>
            <p:nvPr/>
          </p:nvSpPr>
          <p:spPr>
            <a:xfrm>
              <a:off x="4105800" y="6537240"/>
              <a:ext cx="148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71717"/>
                  </a:solidFill>
                  <a:latin typeface="Times New Roman"/>
                </a:rPr>
                <a:t>Test tube rack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0" name="Rectangle 13"/>
          <p:cNvSpPr/>
          <p:nvPr/>
        </p:nvSpPr>
        <p:spPr>
          <a:xfrm>
            <a:off x="2895480" y="3809880"/>
            <a:ext cx="4114800" cy="3048120"/>
          </a:xfrm>
          <a:prstGeom prst="rect">
            <a:avLst/>
          </a:prstGeom>
          <a:solidFill>
            <a:srgbClr val="6600ff">
              <a:alpha val="26000"/>
            </a:srgbClr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914400" y="0"/>
            <a:ext cx="8229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Picture 7" descr="test tube"/>
          <p:cNvPicPr/>
          <p:nvPr/>
        </p:nvPicPr>
        <p:blipFill>
          <a:blip r:embed="rId2"/>
          <a:stretch/>
        </p:blipFill>
        <p:spPr>
          <a:xfrm>
            <a:off x="1523880" y="380880"/>
            <a:ext cx="9144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Petri Dish"/>
          <p:cNvPicPr/>
          <p:nvPr/>
        </p:nvPicPr>
        <p:blipFill>
          <a:blip r:embed="rId3"/>
          <a:stretch/>
        </p:blipFill>
        <p:spPr>
          <a:xfrm>
            <a:off x="1066680" y="3429000"/>
            <a:ext cx="2438640" cy="1736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triple beam balance"/>
          <p:cNvPicPr/>
          <p:nvPr/>
        </p:nvPicPr>
        <p:blipFill>
          <a:blip r:embed="rId4"/>
          <a:stretch/>
        </p:blipFill>
        <p:spPr>
          <a:xfrm>
            <a:off x="3809880" y="380880"/>
            <a:ext cx="3200400" cy="1470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afety goggles"/>
          <p:cNvPicPr/>
          <p:nvPr/>
        </p:nvPicPr>
        <p:blipFill>
          <a:blip r:embed="rId5"/>
          <a:stretch/>
        </p:blipFill>
        <p:spPr>
          <a:xfrm>
            <a:off x="6324480" y="2209680"/>
            <a:ext cx="2438640" cy="16002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6"/>
          <a:stretch/>
        </p:blipFill>
        <p:spPr>
          <a:xfrm>
            <a:off x="4419720" y="4343400"/>
            <a:ext cx="22860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0"/>
            <a:ext cx="8229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1143000" y="3808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4876920" y="30492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1143000" y="373392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00:57:44Z</dcterms:created>
  <dc:creator>Adam Goosby</dc:creator>
  <dc:description/>
  <dc:language>en-US</dc:language>
  <cp:lastModifiedBy>ngoosby.pv</cp:lastModifiedBy>
  <dcterms:modified xsi:type="dcterms:W3CDTF">2010-08-12T14:32:55Z</dcterms:modified>
  <cp:revision>3</cp:revision>
  <dc:subject/>
  <dc:title>Lab Equipment</dc:title>
</cp:coreProperties>
</file>